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E7A7-151B-4BC7-BA09-5194B59B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BEC-1490-4DC0-A0D0-93B539C0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F3E47-E28E-4921-AD64-068B6EF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0CAE3-D805-4683-83D4-4E569D27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A296-CD40-428C-86D6-BC9CA8B0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17556-B3F1-430F-BBBB-009B74E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CF209-A35E-49D8-BD9F-E5BB79F0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B5867-BB00-4662-B934-783036CB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5814B-E73A-499C-A7DC-6015295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6899B-DA7B-4FFA-B75F-B9D897D2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DD7BF-8B94-4444-86B2-931B4392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46C-C70D-4C01-85EF-8B8B5A88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3E5-A398-4296-9071-828B15C7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86C9-FC08-475C-A990-A8563F06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46F1-3BA5-4A0C-BA02-52F56D3C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644B-9571-41C4-B218-6D2D158B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0963-A224-4FD8-859E-BCBB0ACF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CEA4-3245-424F-9266-6B5288B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5EF5-C6C2-47DB-B112-DFCE828B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1E83-CF99-4968-B0DD-AC3A7E6E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845-7BFB-4B95-B4D0-9B332A1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249-2299-46FD-88A3-FA4AF3B1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04A9-69FA-4F2F-8C27-6A90166E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7A29-61AF-4608-AA21-1ADCFE22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909F-09B9-4DF7-9797-6F837B49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F936-2F67-421B-A833-041C39EE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ED20-0E56-42F9-8F69-28E3ECF0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B631-BA2F-497B-9679-8259F43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6545-FBE2-46F7-A02D-A0C8571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34F1A-1489-4EDB-AB49-C73BD7A7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0B47-1CAA-4547-8402-FA036D6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E94-A9DA-4755-993A-1346FF51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FF1D-EED8-4B82-8CCF-FCA0E39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EEF80-F4A7-4894-91D9-D945959D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7951F-A75E-4BB6-A9D6-3958E69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0A99-5DD8-461D-A8ED-95EC2AF4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3130-37DC-497C-8B88-3C2CDA83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503A-0A35-4C4E-8774-8DDCE498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33922-0A91-490D-994E-2506393B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B384E-C29B-40F4-80FA-D382EC6F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1ADB-8687-45E1-BD4A-72A27517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1267-3AAD-42B3-B437-D624B192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4E3-6192-470A-AB9F-565DAC9F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B2BFC-4FBD-464F-BBA4-20AFC96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84A4-53E3-4268-9EE7-9103B0F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4091-DDFB-483A-BB16-36313A32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F0A8D-4CF1-4B2B-A032-80B0AE81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77E1-7FE7-4EEA-8CC2-6731616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281F-06A8-45A5-8803-8808853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03353-B6EF-4923-BE6E-9628B55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D72E7-D1B8-42EA-8229-D1D6E3A5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92ED5-3133-4FAD-BEAE-0740A084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958C-BA49-48F8-B4B1-D6192F84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7C5-8EA1-4490-B9F7-6CFC6835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771E1-C06D-4811-9191-F21DE4A1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0198-D7BB-4D1B-BDDA-55648322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666E-273A-4AC4-9BCB-756053F2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B9413-6BB9-49A8-A589-B82D4C67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DE08E-A7DA-4A5D-BE56-A878CE4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AB58-E384-416B-9112-BF285BC3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157E-2CCE-4740-A565-7E1DFD4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51D98-A631-4C7F-BF53-CA44936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FDE54-C98C-4CBD-B2AF-5B2E7807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D3BA5-8FBE-4EE2-8421-9FA78DA1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B15-E47B-4BDF-A2CE-EF4877BE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4B1C-A777-41F4-900D-BB5618B8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1ED4-3185-4574-AC24-BCC09377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3FB58-09FA-4F01-9142-1495C7D1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173C-91DD-4092-AF14-E87C74F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DA8ED-7D60-4D61-85FE-71F4A694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CA0CB-9E60-4864-9382-7D1CDCB4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E1FBE-B13D-4A82-B681-3A43C9C0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A484-A6B4-4DDB-AEBD-13A2582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E2B7D-8C11-4DE4-A392-405144A5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6BE2B-B7EC-4E07-B1C4-ED4CC9E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6AC-D642-4EEE-8987-9406AFF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C31B2-A418-44E5-8BBE-77E6B726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5658B-5EE5-4E82-BAAA-1EC2BBFB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DD9D-B984-4BD5-8366-25F10A73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A5FA0-4342-47C7-8BEF-5D602EB9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7B3F-B435-4157-91CF-5DCCC98E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6D44-5FAA-40D7-A952-C95B228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483D5-4A19-41BE-A0E3-0E48B8A3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5AB79-BB9A-416C-A02A-3E7C4DCC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EA1C-1AE9-459B-B2A1-CB799B08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000E-0D1F-44AE-9274-400B45A4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122-B9E0-444B-A20C-21A2EA2B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1EC1-7953-418C-AE86-8442869F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5735-D09D-4F54-8544-DC3C240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F8838-6BB4-4459-8913-DF8072D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2F45-47F5-4AEB-9DEE-139E03EC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8CED2-BAF2-4069-85B8-FAEA298A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70BA7-F3A0-4A6E-8562-2B058819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664A1-40BC-4799-B408-67251AFD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61024-1B2C-4F78-A1E6-23366B6A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08E7-5B51-404B-BA27-7E387729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E6B89-E9BA-4DCD-881C-692B03A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75B-3510-4D26-8566-35EB88C8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98E2-08D0-41AB-A8B6-F17F27E2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60580-2524-4864-ADA7-6DFBDD8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3DFA-67C9-418B-B71E-25E305F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6B602-1210-4EC8-880F-FA86006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D054A-36C3-4E18-A72A-EFDBB12F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25B80-3EB1-4102-A13C-2EF81359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C723-C53E-4B35-B24A-D0F827B7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285B2-22D9-4C8A-BEBE-00E882DE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F9834-5EF0-44F1-8206-8FA794B4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D1765-1834-464A-BED4-BE797D2E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D6821-7423-4CBD-B43F-2FB21483AE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0240"/>
            <a:ext cx="8631360" cy="17640"/>
            <a:chOff x="512640" y="5340240"/>
            <a:chExt cx="8631360" cy="1764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024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64347-2660-4DB6-A646-ABDAB019D0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2835D-B381-4B57-AE90-D8D5F6C47C3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7640"/>
            <a:chOff x="512640" y="3438360"/>
            <a:chExt cx="8631360" cy="1764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78322-6EA6-4CB6-B99C-7CA5398401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0200"/>
            <a:ext cx="8631360" cy="19080"/>
            <a:chOff x="512640" y="6010200"/>
            <a:chExt cx="8631360" cy="1908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02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E90E1-2A64-4A60-9C3E-7C7B9B91C2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5E27B-A4D2-4635-A597-856723B4B2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0280"/>
            <a:ext cx="8631360" cy="17640"/>
            <a:chOff x="512640" y="5840280"/>
            <a:chExt cx="8631360" cy="1764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028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C7373-9F72-4B5E-96F3-C587B6E7C3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F5820-4101-46C5-9F56-F08AF9CF01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D13BC-040E-45FC-A836-E9259739678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it.ly/Hdegh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bit.ly/HPeKta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mailto:beth.patel@marin.edu" TargetMode="External"/><Relationship Id="rId3" Type="http://schemas.openxmlformats.org/officeDocument/2006/relationships/hyperlink" Target="mailto:cara.statucki@marin.edu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460440" y="812880"/>
            <a:ext cx="821196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creasing Student Success by Integrating SLOs and Best Practices</a:t>
            </a:r>
            <a:endParaRPr b="0" lang="en-US" sz="4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460440" y="3540240"/>
            <a:ext cx="901836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 Patel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L/Basic Skills English            English Department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ege of Marin                         College of Marin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nk to our Wiki site:  </a:t>
            </a:r>
            <a:r>
              <a:rPr b="0" lang="en-US" sz="2700" spc="-1" strike="noStrike" u="sng">
                <a:solidFill>
                  <a:srgbClr val="ad1f1f"/>
                </a:solidFill>
                <a:uFillTx/>
                <a:latin typeface="Arial"/>
                <a:hlinkClick r:id="rId1"/>
              </a:rPr>
              <a:t>http://bit.ly/Hdeghg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ionale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view of our college learning outcomes 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 of our proces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ications to other department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ce of professional learning communities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L course alignment and Student Learning Outcomes (SLOs)   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LOs and classroom practices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ege-wide learning outcomes 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quiry Question: What instructional practices can we use to prepare basic skills students to successfully meet college-wide SLOs? 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Competency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 Critical Thinking and Problem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Information Literac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 Visual Communic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Scientific Reasoning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 SLOs reflect the core competencies required for students who complete the General Education program and serve as the SLOs for our GE program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brics:  </a:t>
            </a:r>
            <a:r>
              <a:rPr b="0" lang="en-US" sz="13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bit.ly/HPeKta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8" name="Freeform 4"/>
          <p:cNvSpPr/>
          <p:nvPr/>
        </p:nvSpPr>
        <p:spPr>
          <a:xfrm flipV="1">
            <a:off x="4135320" y="1718640"/>
            <a:ext cx="497160" cy="601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Freeform 5"/>
          <p:cNvSpPr/>
          <p:nvPr/>
        </p:nvSpPr>
        <p:spPr>
          <a:xfrm flipV="1">
            <a:off x="4138560" y="3141000"/>
            <a:ext cx="477720" cy="655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316080" y="1306440"/>
            <a:ext cx="8912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rite proposal; solicit materials from teachers in the department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112680" y="2394000"/>
            <a:ext cx="9031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 current research, publications about new trends in the field and other schools, and conference materials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-90360" y="3846600"/>
            <a:ext cx="9764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gn the materials collected with the five college learning outcomes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Freeform 10"/>
          <p:cNvSpPr/>
          <p:nvPr/>
        </p:nvSpPr>
        <p:spPr>
          <a:xfrm flipV="1">
            <a:off x="4138560" y="4360320"/>
            <a:ext cx="520920" cy="69372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 Box 11"/>
          <p:cNvSpPr/>
          <p:nvPr/>
        </p:nvSpPr>
        <p:spPr>
          <a:xfrm>
            <a:off x="112680" y="4964040"/>
            <a:ext cx="90313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Wiki site using the collected materials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Freeform 12"/>
          <p:cNvSpPr/>
          <p:nvPr/>
        </p:nvSpPr>
        <p:spPr>
          <a:xfrm flipV="1">
            <a:off x="4138560" y="5681520"/>
            <a:ext cx="566640" cy="790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299880" y="6475320"/>
            <a:ext cx="89838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re resources within the college and beyond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your groups, look over the rubrics and talk about 1-2 activities that you use in your classroom that relate to one of the skills on the critical thinking rubric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can this type of work be applied to your own department?  Do you have similar methods for sharing resources?  Are they linked to course, program, or school-wide SLOs? 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  Contact: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h Patel </a:t>
            </a:r>
            <a:r>
              <a:rPr b="0" lang="en-US" sz="30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beth.patel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r>
              <a:rPr b="0" lang="en-US" sz="30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cara.statucki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was funded by the Basic Skills Initiative at College of Marin   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4:28:30Z</dcterms:created>
  <dc:creator>Bradley Kreit</dc:creator>
  <dc:description/>
  <dc:language>en-US</dc:language>
  <cp:lastModifiedBy>Cara Statucki</cp:lastModifiedBy>
  <dcterms:modified xsi:type="dcterms:W3CDTF">2012-04-12T02:27:46Z</dcterms:modified>
  <cp:revision>1</cp:revision>
  <dc:subject/>
  <dc:title>Slide 1</dc:title>
</cp:coreProperties>
</file>